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D67B-1568-4310-9D0C-B639F3189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263CB-EEB6-4971-A2AD-B776B57621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5809-2A1B-4F47-8D01-76C0EBDD6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D797-0F01-4562-99A5-EC064C334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17786-98A3-47D6-B9C2-045EF087D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EE9C0-7BF2-4B78-AF0E-7A1B2AEF62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3DBD-D4D1-4844-A9E5-496AC923C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66948-9D8B-4160-B866-FF972FF93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9315D-9400-456D-85CD-AEB327C84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F5150-34DD-441C-B415-D9AB9E9DD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008E8-6C9A-480B-9C0B-269FC46EA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8C95-2EB9-424B-80BB-2BDFE39F5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3BB7FF-BC98-4AF9-A74F-487771D6C5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madjack.ru/assets_c/2010/03/hosting-thumb-520x324-358.jpg" TargetMode="External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39.radikal.ru/i083/1002/13/ed0f267a6aaa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www.prinet.ru/yandex-srch.jpg" TargetMode="External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oft.oszone.net/images/screenshot/?soft=9892" TargetMode="External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netprofessional.ru/uploads/posts/1200855780_sc3-2a.gif" TargetMode="External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ledinn.ru/userfiles/burevestnik(1).jpg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glavpoker.ru/spaw2/temp/images/uploaded_87dacf6a70d0714836c313a100dcf968.jpg" TargetMode="External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1692360" y="476280"/>
            <a:ext cx="5832360" cy="43894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Электронна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коммерция </a:t>
            </a:r>
            <a:br>
              <a:rPr sz="8800"/>
            </a:br>
            <a:r>
              <a:rPr b="0" i="1" lang="en-US" sz="8800" spc="-1" strike="noStrike" u="sng">
                <a:solidFill>
                  <a:srgbClr val="009999"/>
                </a:solidFill>
                <a:uFillTx/>
                <a:latin typeface="Mistral"/>
              </a:rPr>
              <a:t>в Интернете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403280" y="5373360"/>
            <a:ext cx="6400800" cy="88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ранцева О.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учитель информатики и ИК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ОУ СОШ №1 г. Спасска Пензе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539640" y="692280"/>
            <a:ext cx="8229600" cy="28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Электронная коммерция в Интернете — это коммерческая деятельность в сфере рекламы и распространения товаров и услуг посредством использования сети Интерн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8360" y="530064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В настоящее время электронная коммерция быстро развивается и, по статистике, уже более 200 миллионов человек во всем мире регулярно совершают покупки в Интернет-магазинах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3924360" y="3357720"/>
            <a:ext cx="3024000" cy="174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Хостинг – это услуга по размещению информации во Всемирной паутине.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Хостинг включает в себя предоставление дискового пространства для размещения Web-сайтов на Web-серверах, предоставления к ним доступа по каналу связи с определенной пропускной способностью, а также прав администрирования сайта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Картинка 76 из 200335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476360" y="2133720"/>
            <a:ext cx="6192720" cy="26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Реклама в Интернете – это особый вид рекламы, который использует различные интернет-сред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556000" y="2205000"/>
            <a:ext cx="503280" cy="64764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35640" y="2205000"/>
            <a:ext cx="504720" cy="576360"/>
          </a:xfrm>
          <a:prstGeom prst="line">
            <a:avLst/>
          </a:prstGeom>
          <a:ln w="38160">
            <a:solidFill>
              <a:srgbClr val="bbe0e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611280" y="3141720"/>
            <a:ext cx="33843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медийная - в форме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баннерной ссылки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643280" y="3213000"/>
            <a:ext cx="33847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контекстная - рядом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1" strike="noStrike">
                <a:ln w="9360">
                  <a:solidFill>
                    <a:srgbClr val="bbe0e3"/>
                  </a:solidFill>
                  <a:miter/>
                </a:ln>
                <a:solidFill>
                  <a:srgbClr val="bbe0e3"/>
                </a:solidFill>
                <a:latin typeface="Arial"/>
              </a:rPr>
              <a:t>с результами поиска</a:t>
            </a:r>
            <a:endParaRPr b="0" i="1" lang="en-US" sz="2000" spc="1" strike="noStrike">
              <a:ln w="9360">
                <a:solidFill>
                  <a:srgbClr val="bbe0e3"/>
                </a:solidFill>
                <a:miter/>
              </a:ln>
              <a:solidFill>
                <a:srgbClr val="bbe0e3"/>
              </a:solidFill>
              <a:latin typeface="Arial"/>
              <a:ea typeface="Arial"/>
            </a:endParaRPr>
          </a:p>
        </p:txBody>
      </p:sp>
      <p:pic>
        <p:nvPicPr>
          <p:cNvPr id="55" name="" descr="Картинка 14 из 1756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84360" y="4192560"/>
            <a:ext cx="3240000" cy="19382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Картинка 10 из 10190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4572000" y="4005360"/>
            <a:ext cx="3600360" cy="218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Доска объявлений – это сайт аналогичный обычным рекламным газетам.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Informal Roman"/>
              </a:rPr>
              <a:t>Простейшим вариантом электронной торговли являются виртуальные доски объявлений, где продавцы и покупатели просто обмениваются информацией о предлагаемом товаре (аналог газеты «Из рук в руки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7432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Картинка 106 из 24017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124000" y="1989000"/>
            <a:ext cx="3853080" cy="27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bbe0e3"/>
                </a:solidFill>
                <a:latin typeface="Informal Roman"/>
              </a:rPr>
              <a:t>Интернет-аукцион – это аукцион, проводящийся посредством Интернета дистанционно.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8360" y="4941720"/>
            <a:ext cx="82296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Informal Roman"/>
              </a:rPr>
              <a:t>Интересной формой электронной торговли являются Интернет-аукционы. На такие аукционы выставляются самые разные товары: произведения искусства, компьютерная техника, автомобили и т. д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Картинка 13 из 512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857680" y="2176560"/>
            <a:ext cx="3730320" cy="272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68360" y="620640"/>
            <a:ext cx="45352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bbe0e3"/>
                </a:solidFill>
                <a:latin typeface="Informal Roman"/>
              </a:rPr>
              <a:t>Интернет-магазин – это веб-сайт, рекламирующий товар или услугу, принимающий заказы на покупку, предлагающий выбор варианта расчёта, способа получения заказа и выписывающий счёт на оплату. 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5003640" y="1413000"/>
            <a:ext cx="335304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30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bbe0e3"/>
                </a:solidFill>
                <a:latin typeface="Informal Roman"/>
              </a:rPr>
              <a:t>Цифровые деньги – это специальное платёжное средство в электронном виде, которое находится на электронном носителе в распоряжении пользователя.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684360" y="4149720"/>
            <a:ext cx="3095640" cy="192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фровые (электронные)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деньги выпускают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пециальные организа-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ции для развит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и финансирования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своей деятельности</a:t>
            </a:r>
            <a:endParaRPr b="0" lang="en-US" sz="20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7" name="" descr="Картинка 104 из 21503">
            <a:hlinkClick r:id="rId2"/>
          </p:cNvPr>
          <p:cNvPicPr/>
          <p:nvPr/>
        </p:nvPicPr>
        <p:blipFill>
          <a:blip r:embed="rId3"/>
          <a:srcRect l="0" t="20792" r="0" b="0"/>
          <a:stretch/>
        </p:blipFill>
        <p:spPr>
          <a:xfrm>
            <a:off x="3995640" y="3527280"/>
            <a:ext cx="4429080" cy="26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684360" y="836640"/>
            <a:ext cx="7848360" cy="518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1:29:46Z</dcterms:created>
  <dc:creator>Учитель</dc:creator>
  <dc:description/>
  <dc:language>en-US</dc:language>
  <cp:lastModifiedBy>учитель</cp:lastModifiedBy>
  <dcterms:modified xsi:type="dcterms:W3CDTF">2010-10-26T15:05:34Z</dcterms:modified>
  <cp:revision>5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61411049</vt:lpwstr>
  </property>
</Properties>
</file>